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C82-8755-4E04-AC14-23A5563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4C0-E6D7-42A2-99D6-929100E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F7-2ED1-45AB-859F-AEBFB4A2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67E-BD55-4942-BCCD-988DB3DF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5A0-EA3C-4869-A75E-E112C68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0B4-26FA-4171-BBE9-00CFB71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403-2212-4EAA-B2BC-E1664B8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49A-35AA-4E64-A09B-B2D97AD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94A-1BC9-46B7-8BC5-4723FBE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CCA-6318-4938-9C63-356965C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41F-ABC6-4D3E-A2B3-51CBA49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C60-A8DD-4D88-BFEF-D1D56DA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315-65C2-4B96-9906-90F2A273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0100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560" y="2550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37192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26400" cy="2108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370720" cy="124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2184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015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8:01Z</dcterms:created>
  <dc:creator>Graham</dc:creator>
  <dc:description/>
  <dc:language>en-US</dc:language>
  <cp:lastModifiedBy>Graham</cp:lastModifiedBy>
  <dcterms:modified xsi:type="dcterms:W3CDTF">2011-10-22T23:31:02Z</dcterms:modified>
  <cp:revision>2</cp:revision>
  <dc:subject/>
  <dc:title>Slide 1</dc:title>
</cp:coreProperties>
</file>